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A8D-E884-4DA3-8A06-7EE64A50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3BC-FD4D-4A14-B594-6952379F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F31-71D8-4D54-A394-B092E65A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ED6-B494-4259-9416-364657A8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4B4-ACA9-4714-BB9A-AADDC97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D2C-6A02-431D-BBA3-219D7B8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BBA-A9E0-460C-96C2-742BB10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2B5-16F9-498E-BF9E-9E6A4DF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D26-7760-488F-B64B-E807F51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8D8-4B45-4723-9814-2AD60EF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9E1-1AC5-411B-A5FA-F18BBEF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F10-668B-4731-9502-65978FEB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3FFB-3AA1-4F3E-A87E-FA8B967C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Infancy and Childhood: Piaget’s Cognitive St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4: Prenatal and Childhoo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first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birth to about age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gathers information about the world through sensory impressions and mot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learns object perma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Perman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wareness that things continue to exist even when you cannot see or hear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 of sight, out of mi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second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bout age 2 to age 6 or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learns to use language but cannot yet think log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ocent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Piaget’s theory, the inability of the preoperational child to take another person’s point of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a child’s inability to understand that symbols can represent other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third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bout age 6 to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gain the mental skills that let them think logically about concret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understanding that certain properties remain constant despite changes in their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perties can include mass, volume, and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29" descr="Picture30b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icture30c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icture30d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aget Development.mov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an Piaget (pee-ah-ZH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oneer in the study of developmental psychology who introduced a stage theory of cognitive development that lead to a better understanding of children’s though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a theory consisting of four stages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lair-Broeker_14UN05"/>
          <p:cNvPicPr/>
          <p:nvPr/>
        </p:nvPicPr>
        <p:blipFill>
          <a:blip r:embed="rId1"/>
          <a:stretch/>
        </p:blipFill>
        <p:spPr>
          <a:xfrm>
            <a:off x="4800600" y="3965400"/>
            <a:ext cx="38098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Conserv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9999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fourth and last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age 12 on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begin to think logically about abstract concepts and form strategies about things they may not have experie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solve hypothetical problems (What if…. proble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Infancy and Childhood: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ssessing Pia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4: Prenatal and Childhoo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iaget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lair-Broeker_table"/>
          <p:cNvPicPr/>
          <p:nvPr/>
        </p:nvPicPr>
        <p:blipFill>
          <a:blip r:embed="rId1"/>
          <a:stretch/>
        </p:blipFill>
        <p:spPr>
          <a:xfrm>
            <a:off x="1219320" y="990720"/>
            <a:ext cx="64767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iaget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 underestimated the child’s ability at various 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theory doesn’t take into account culture and social differ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Adolescence: Moral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5: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or of a three-stage theory of mor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man was near death from a unique kind of cancer. There is a drug that might save her. The drug costs $4,000 per dosage. The sick woman's husband, Heinz, went to everyone he knew to borrow the money and tried every legal means, but he could only get together about $2,000. He asked the doctor scientist who discovered the drug for a discount or let him pay later. But the doctor scientist ref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Heinz break into the laboratory to steal the drug for his wife? Why or why not?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nz broke into the laboratory and stole the drug. The next day, the newspapers reported the break-in and theft. Brown, a police officer and a friend of Heinz remembered seeing Heinz last evening, behaving suspiciously near the laboratory. Later that night, he saw Heinz running away from the laboratory.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Brown report what he saw? Why or why no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 Brown reported what he saw. Heinz was arrested and brought to court. If convicted, he faces up to two years' jail. Heinz was found guilty.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the judge sentence Heinz to prison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the mental activities associated with thinking, knowing, and rememb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think differently than adults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re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the desire to avoid punishment or gain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ly children under the age of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concern is to fit in and play the role of a good 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have a strong desire to follow the rules and la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of most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Post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references to universal ethical principles that represent the rights or obligations of all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adults do not reach this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ohlberg 03"/>
          <p:cNvPicPr/>
          <p:nvPr/>
        </p:nvPicPr>
        <p:blipFill>
          <a:blip r:embed="rId1"/>
          <a:stretch/>
        </p:blipFill>
        <p:spPr>
          <a:xfrm>
            <a:off x="383868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Kohlberg 02"/>
          <p:cNvPicPr/>
          <p:nvPr/>
        </p:nvPicPr>
        <p:blipFill>
          <a:blip r:embed="rId1"/>
          <a:stretch/>
        </p:blipFill>
        <p:spPr>
          <a:xfrm>
            <a:off x="3838680" y="0"/>
            <a:ext cx="5037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Kohlberg 01"/>
          <p:cNvPicPr/>
          <p:nvPr/>
        </p:nvPicPr>
        <p:blipFill>
          <a:blip r:embed="rId1"/>
          <a:stretch/>
        </p:blipFill>
        <p:spPr>
          <a:xfrm>
            <a:off x="3838680" y="0"/>
            <a:ext cx="5037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ocial Development in Adolesc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5: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ik Eri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an 8-stage theory of soci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stage has its own psychosocial, developmental ta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rikson 02"/>
          <p:cNvPicPr/>
          <p:nvPr/>
        </p:nvPicPr>
        <p:blipFill>
          <a:blip r:embed="rId1"/>
          <a:stretch/>
        </p:blipFill>
        <p:spPr>
          <a:xfrm>
            <a:off x="533520" y="866880"/>
            <a:ext cx="81532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rikson 03"/>
          <p:cNvPicPr/>
          <p:nvPr/>
        </p:nvPicPr>
        <p:blipFill>
          <a:blip r:embed="rId1"/>
          <a:stretch/>
        </p:blipFill>
        <p:spPr>
          <a:xfrm>
            <a:off x="762120" y="417600"/>
            <a:ext cx="76960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pts or mental frameworks that people use to organize and interpre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imes called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erson’s “picture of the worl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Erikson 01"/>
          <p:cNvPicPr/>
          <p:nvPr/>
        </p:nvPicPr>
        <p:blipFill>
          <a:blip r:embed="rId1"/>
          <a:stretch/>
        </p:blipFill>
        <p:spPr>
          <a:xfrm>
            <a:off x="1676520" y="9360"/>
            <a:ext cx="5624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reting a new experience within the context of existing sch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w experience is similar to other previous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ng current schemas to incorporate new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w experience is so novel the person’s schemata must be changed to accommodat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0" descr="Assim Accomm 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3" descr="Assim Accomm 02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31" descr="Assim Accomm 01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08T16:57:23Z</dcterms:modified>
  <cp:revision>98</cp:revision>
  <dc:subject/>
  <dc:title>Psychology</dc:title>
</cp:coreProperties>
</file>